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7AC-F46E-4246-A442-08F61BA7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7E4-D608-4FFC-9196-E87B76B4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E8A-8A5E-4444-8D8F-A675B050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1F6-CAAD-4B3E-B194-EC653DF9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A9B3-7930-4D0A-8CBA-16D9D7E9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6D12-7AC2-49F4-B084-52349DCB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F7E6-1FBE-4378-A108-E3778D98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D934-D015-4A2C-B4CD-084CB3AA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A95C-E06B-41F0-B4ED-56010A15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F6DB-BFBA-4712-9653-56724339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58FD-C038-4E06-891F-E4587708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35F-25A2-4D0D-8E45-35A9B37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4049-5659-4E38-9973-5121B51D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5EE3-BE59-42C8-8D75-0B565BC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78F8-F1F3-4DAC-AF70-FC04C1CC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0158-F909-4B4A-988F-F45E7254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1767-D5C1-4E25-BED8-6EEC7CBE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75C-54E8-4D57-8822-E131D1B0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0A3-3E5B-438F-8A64-587117A8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31F-7520-4718-B788-7469054B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409-ABA9-467E-9F26-9385EC48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172-4271-4D0A-BCF1-A5306A1A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42E-011C-408F-921E-097B43D2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506-72F2-44AD-978D-75A133D6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4FC4-C41E-410E-B4B0-217D564E43F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0B87-2A81-4C02-AA1F-A6A36EC30FE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dicated to Community Serv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hool Year 2010-201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iving of ones time and talent, by choice, to help others in the communit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monetary compensation, grade, or academic cred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nting to help others and make a differ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3" descr="xmas drive.jpg"/>
          <p:cNvPicPr/>
          <p:nvPr/>
        </p:nvPicPr>
        <p:blipFill>
          <a:blip r:embed="rId2"/>
          <a:stretch/>
        </p:blipFill>
        <p:spPr>
          <a:xfrm>
            <a:off x="2514600" y="411480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iving back to your co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hool related benefi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ght Fu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erintendant’s Diploma of Distin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lking in Whi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holarshi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w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2" descr="C:\Documents and Settings\cmmillig\Local Settings\Temporary Internet Files\Content.IE5\C5UV4HYJ\MC900353686[1].wmf"/>
          <p:cNvPicPr/>
          <p:nvPr/>
        </p:nvPicPr>
        <p:blipFill>
          <a:blip r:embed="rId2"/>
          <a:stretch/>
        </p:blipFill>
        <p:spPr>
          <a:xfrm>
            <a:off x="6324480" y="4114800"/>
            <a:ext cx="19465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ect a location that meets an identified community service with a public, non-profit agenc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gency should provide a safe, supervised environment and a volunteer job descrip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duties should be meaningful and provide a service to the co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and your parent/guardian are solely responsible for selecting a community service loc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school: Clubs, peer tutoring, school ev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urch youth progr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ity Librar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nior Cent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alth Fai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Organiz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FM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2" descr="C:\Documents and Settings\cmmillig\Local Settings\Temporary Internet Files\Content.IE5\4XYBG1M7\MC900297577[1].wmf"/>
          <p:cNvPicPr/>
          <p:nvPr/>
        </p:nvPicPr>
        <p:blipFill>
          <a:blip r:embed="rId2"/>
          <a:stretch/>
        </p:blipFill>
        <p:spPr>
          <a:xfrm>
            <a:off x="5486400" y="3581280"/>
            <a:ext cx="25909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Partnership agre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UST BE COMPLETED BEFORE YOU START YOUR HOURS!!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Partnership Program Sign in Shee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Partnership Program Student/Parent Guideli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PS tips for Student Volunteers bookl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3:39:57Z</dcterms:created>
  <dc:creator>cmmillig</dc:creator>
  <dc:description/>
  <dc:language>en-US</dc:language>
  <cp:lastModifiedBy>jkheifne</cp:lastModifiedBy>
  <dcterms:modified xsi:type="dcterms:W3CDTF">2010-07-29T14:35:06Z</dcterms:modified>
  <cp:revision>8</cp:revision>
  <dc:subject/>
  <dc:title>Medical Academy</dc:title>
</cp:coreProperties>
</file>